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39EA7-27F6-45D3-B8C7-40FAC7EC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6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2E55EA-3D4A-4E29-A43C-1ACA0F13D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24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BFBE6E-8820-4693-A2B8-F7FDA59AA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5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7F85CC-82F6-4AB0-953E-B24CFC27E2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6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CF8A30-98B7-4BDB-BC84-E2A96F4FDF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7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FE110E-8253-4922-80A8-7F17961B2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8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4F6608-700D-4E6B-9BD2-FEDA06E44F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17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FFC72E-8BC7-4DA2-86D2-BF26A836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F40B06-451F-45F9-A671-6F3DAD8234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9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3BF01D-A7C6-4A98-83BD-D6BA35BFB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Num" idx="20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E46C36-CA39-48F4-8913-69A1F3450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1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D25B8E-37A4-4861-A4E9-1A49AE585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22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A2B7AE-2050-4429-A8B1-B221E2C0C7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Num" idx="23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73793-6AED-4127-B2DC-022F28339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E29-F620-4354-B6A5-84E47407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21F-DDD7-4E98-9566-79B0CEF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792-41A1-4C02-9A6F-F1436D35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D72-185C-4841-AEAC-A9018188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9481-227B-4252-8C58-41C7627D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799-86D2-4A45-9A98-A1804019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7ADD-549E-426D-A209-6F6621E3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FF71-40C3-4DE3-B3E4-43CC646D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2A7-BA10-45E1-B2A0-956EC813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97AF-D75F-4FCA-9250-37BBB075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B9B1-3D16-4E8A-BFE4-ADC2772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9CE-51CF-4596-B06F-79CF522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1C77-59F6-4596-AE55-B0AC5F7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678D-D4EE-4BF6-958F-01A160E0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E7A9-0A1E-44DB-808B-AA92DC34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4D9C-96C1-45F4-9262-4717F07B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D990-7A24-4014-B366-FCB9496F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20D7-633F-462D-BE28-20660FDA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EC92-946E-4D8D-90C5-3B4C52F2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A8CF-3AC1-438C-851E-E7EBB005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EF89-E820-448A-B0CC-DD716F8C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D157-40CF-4823-9DD7-830A2017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538-0D9B-41E8-9B51-792662D0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38A3-FEEC-4555-9E4C-DE2E4795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2802-DF7F-44E8-B989-23A9AE7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AD94-5079-4250-A51D-6BF7398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0526-43DC-41E0-88C5-FB18B8C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557D-8488-4059-AE60-8C275BE4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4D30-90F1-4E4F-9D8D-6D7BC4A9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B093-9E00-4460-A8DA-FEA05C48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CB6D-9F68-4208-BB04-59299B29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3226-54B4-4D36-B37D-6B55147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7872-240E-4342-A181-36D14940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9A3-7774-46B9-9886-449D0AF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F37F-DDA0-453F-BC98-EB4A6B85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8814-F0E4-4F07-84DF-B3989BD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2F855-22EF-47CF-88B4-766FE4A7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7349-CB6E-4735-85FB-CCA4745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4022-45DB-4553-9196-33A30FE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F8B2-4B11-4665-B9F3-03C1AA3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3488D-8126-4A95-B4A4-0FB9A46E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9AA4-81F9-44CA-89D1-98711B0A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F67C-9BA5-4BF5-85DA-E17D25A9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80E-3A0E-4583-A793-35B5895F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8DA-02CE-41C5-9941-F9ACDD42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224-23B5-4612-925D-3571AC32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A8E-BE01-47D6-8942-F425F46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CD6-82BC-48EA-B922-1373F68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D70D729-DDB6-4BC7-B3C3-F36C2EDAD056}" type="slidenum">
              <a:rPr b="0" lang="en-US" sz="1600" spc="-1" strike="noStrike">
                <a:solidFill>
                  <a:srgbClr val="6d8687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5A8B11-5FD6-4C28-8B1B-BFEB828C97C9}" type="slidenum">
              <a:rPr b="0" lang="en-US" sz="1600" spc="-1" strike="noStrike">
                <a:solidFill>
                  <a:schemeClr val="accent3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17DA3A-3580-4842-B5FE-763CA84FDA1A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3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Straight Connector 9"/>
          <p:cNvSpPr/>
          <p:nvPr/>
        </p:nvSpPr>
        <p:spPr>
          <a:xfrm flipV="1">
            <a:off x="4572000" y="2199960"/>
            <a:ext cx="360" cy="4188240"/>
          </a:xfrm>
          <a:prstGeom prst="line">
            <a:avLst/>
          </a:prstGeom>
          <a:ln w="9525">
            <a:solidFill>
              <a:srgbClr val="646b8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3640" cy="1447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52280" y="1371600"/>
            <a:ext cx="8832600" cy="91404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45800" y="6391800"/>
            <a:ext cx="8832600" cy="31068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01680" y="1523880"/>
            <a:ext cx="4039920" cy="732600"/>
          </a:xfrm>
          <a:prstGeom prst="rect">
            <a:avLst/>
          </a:prstGeom>
          <a:noFill/>
          <a:ln w="15840">
            <a:noFill/>
          </a:ln>
          <a:effectLst>
            <a:outerShdw dist="255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91240" y="1523880"/>
            <a:ext cx="4041360" cy="731160"/>
          </a:xfrm>
          <a:prstGeom prst="rect">
            <a:avLst/>
          </a:prstGeom>
          <a:noFill/>
          <a:ln w="15840">
            <a:noFill/>
          </a:ln>
          <a:effectLst>
            <a:outerShdw dist="255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chemeClr val="lt1"/>
                </a:solidFill>
                <a:latin typeface="Georg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14"/>
          <p:cNvSpPr/>
          <p:nvPr/>
        </p:nvSpPr>
        <p:spPr>
          <a:xfrm>
            <a:off x="152280" y="1280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301680" y="2471400"/>
            <a:ext cx="404136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body"/>
          </p:nvPr>
        </p:nvSpPr>
        <p:spPr>
          <a:xfrm>
            <a:off x="4800600" y="2471400"/>
            <a:ext cx="403812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 type="sldNum" idx="12"/>
          </p:nvPr>
        </p:nvSpPr>
        <p:spPr>
          <a:xfrm>
            <a:off x="4343400" y="10425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02BABF-5CC8-4857-BAF9-EECDBBE557B0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8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c.edu/" TargetMode="External"/><Relationship Id="rId2" Type="http://schemas.openxmlformats.org/officeDocument/2006/relationships/hyperlink" Target="mailto:rrogers@iamaw.or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30556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2800" spc="248" strike="noStrike" cap="all">
                <a:solidFill>
                  <a:srgbClr val="646b86"/>
                </a:solidFill>
                <a:latin typeface="Georgia"/>
              </a:rPr>
              <a:t>a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International Association of Machinists and Aerospace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4000" spc="248" strike="noStrike" cap="all">
                <a:solidFill>
                  <a:srgbClr val="646b86"/>
                </a:solidFill>
                <a:latin typeface="Georgia"/>
              </a:rPr>
              <a:t>Degre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IAM 2c"/>
          <p:cNvPicPr/>
          <p:nvPr/>
        </p:nvPicPr>
        <p:blipFill>
          <a:blip r:embed="rId1"/>
          <a:stretch/>
        </p:blipFill>
        <p:spPr>
          <a:xfrm>
            <a:off x="196920" y="4572000"/>
            <a:ext cx="2088720" cy="208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WETCPRE2"/>
          <p:cNvPicPr/>
          <p:nvPr/>
        </p:nvPicPr>
        <p:blipFill>
          <a:blip r:embed="rId2"/>
          <a:stretch/>
        </p:blipFill>
        <p:spPr>
          <a:xfrm>
            <a:off x="6910560" y="4495680"/>
            <a:ext cx="2233080" cy="236196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2"/>
          <p:cNvSpPr/>
          <p:nvPr/>
        </p:nvSpPr>
        <p:spPr>
          <a:xfrm>
            <a:off x="304920" y="-10692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52280" y="1584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304920" y="16812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457200" y="32076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534960" y="513000"/>
            <a:ext cx="8076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99880"/>
            <a:ext cx="8805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Estimated Cost of Residenc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70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idency Fee (per residency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$ 350.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om &amp; Boar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7 days at area Hotel – Approximately $200.00 per d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ravel to and from each residency – Cost will va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546d7a"/>
                </a:solidFill>
                <a:latin typeface="Georgia"/>
              </a:rPr>
              <a:t>Estimated cost for meals per day - Var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 Charge if taken at W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oks &amp; Material Fees (varies per course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duation Cos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stimated Cost of Masters Degre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pplication Fee (waived if application i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bmitted through W3)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$    50.00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uition and Fe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6 credit per semester examp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uition (Per Credit Hour $605.00)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    $3630.00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echnology Fee                                                                      175.00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ollege Fee ($.85 per credit)                          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5.10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Student Activity Fee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($6.25 per credit hou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p $25. per semester)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25.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Health &amp; Wellness Fee ($15 per semester)                       15.00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1680" y="1523880"/>
            <a:ext cx="4039920" cy="732600"/>
          </a:xfrm>
          <a:prstGeom prst="rect">
            <a:avLst/>
          </a:prstGeom>
          <a:noFill/>
          <a:ln w="1584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Under-Graduate Degree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791240" y="1523880"/>
            <a:ext cx="4041360" cy="731160"/>
          </a:xfrm>
          <a:prstGeom prst="rect">
            <a:avLst/>
          </a:prstGeom>
          <a:noFill/>
          <a:ln w="1584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raduate Degre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5" name="Content Placeholder 6"/>
          <p:cNvGraphicFramePr/>
          <p:nvPr/>
        </p:nvGraphicFramePr>
        <p:xfrm>
          <a:off x="301680" y="2403000"/>
          <a:ext cx="4041360" cy="4905360"/>
        </p:xfrm>
        <a:graphic>
          <a:graphicData uri="http://schemas.openxmlformats.org/drawingml/2006/table">
            <a:tbl>
              <a:tblPr/>
              <a:tblGrid>
                <a:gridCol w="1455120"/>
                <a:gridCol w="1051920"/>
                <a:gridCol w="1534320"/>
              </a:tblGrid>
              <a:tr h="6181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Name of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In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Out of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820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Empire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4,3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W3 dis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181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niversity of Ma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6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3,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4010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0,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4,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35820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Ka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66,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66,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84528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Indiana University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1,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Content Placeholder 7"/>
          <p:cNvGraphicFramePr/>
          <p:nvPr/>
        </p:nvGraphicFramePr>
        <p:xfrm>
          <a:off x="4800600" y="2361960"/>
          <a:ext cx="4038120" cy="4594320"/>
        </p:xfrm>
        <a:graphic>
          <a:graphicData uri="http://schemas.openxmlformats.org/drawingml/2006/table">
            <a:tbl>
              <a:tblPr/>
              <a:tblGrid>
                <a:gridCol w="1416960"/>
                <a:gridCol w="1062720"/>
                <a:gridCol w="1558440"/>
              </a:tblGrid>
              <a:tr h="5785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Name of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In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Out of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028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Empire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703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niversity of Ma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7,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8556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656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Kaplan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8042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Indiana University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7,0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  <p:sp>
        <p:nvSpPr>
          <p:cNvPr id="267" name="PlaceHolder 3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ost Comparison – Per Semest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cholarship/Financial Assistanc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AM Schola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ederal Financial A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ion Plus College Schola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teran’s Bene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FL-CIO Webs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 Lo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eck with your district for possible scholarship opportun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0068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 More Informa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mpire State Colle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ebsite – </a:t>
            </a: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esc.edu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Jim McMahon – 646-230-1355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AMAW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honda Rogers – </a:t>
            </a: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rrogers@iamaw.or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honda Rogers – 301-373-8819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Georgi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npisinger Center -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01-373-3300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55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8720" cy="4723920"/>
          </a:xfrm>
          <a:prstGeom prst="rect">
            <a:avLst/>
          </a:prstGeom>
          <a:noFill/>
          <a:ln w="0">
            <a:solidFill>
              <a:srgbClr val="99ff33"/>
            </a:solidFill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unded in 1971 by SUNY Board of Trustees and Ernest L. Boyer (Future US Commissioner of Education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enter for Labor Studies renamed Harry Van Arsdale, Jr. Center in 1986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bor focused non-traditional teaching &amp; online learning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lly accredited by Middle States Commission on Higher Educ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erves working adults at 35 New York locations and onlin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ffers associate, bachelor’s and master’s degree program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064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3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ociate Degree in Labor Studi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2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64 credit hou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0 credits must include general education requirements in seven of ten area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ust include mathematics and basic commun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oice of five from natural science, social science, American history, western civilization, other world civilizations, humanities, the arts, and foreign langu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ransfer credits may be used to meet this requirem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24 of 64 credits must be earned at Empire State Colle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853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3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helor’s Degree in Labor Studi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87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124 credit hou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0 credits must include general education requirements in seven of ten area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ust include mathematics and basic commun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oice of five from natural science, social science, American history, western civilization, other world civilizations, humanities, the arts, and foreign langu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ansfer credits may be used to meet this require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2 of 124 credits must be earned at Empire State Colle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9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00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Counts for Credit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ge Transfer Credits  (“C” or bette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ited States Univers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national Univers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renticeship Cred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litary Cred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ge Level Examination Program (CLEP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dividualized Prior Learning (IPL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nership Credits through W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nership Credits through Academic/Union Partn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72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idency Requirement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rt of Entr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al 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bor &amp; Public Affai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llege Writ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ediate Arts &amp; Scien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Development of the Labor Movemen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Labor &amp; the Econom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Labor by the Numbers (satisfies Math Gen. Ed. Requirement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cience &amp; Civilization (satisfies Science Gen. Ed. Requirement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stone Residency (Require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Thesi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Semina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815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Estimated Cost for Required Clas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7076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9000"/>
          </a:bodyPr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Application Fee (waived if application is submitted through W3)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$   50.00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Tuition and Fees (4 credits per class)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uition (Per Credit Hour $297 for residency courses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1188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uition (Per Credit Hour $360 for on-line only courses)                                                                       1440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echnology Fee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(Per Semester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 17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College Fee ($.85 per credit up to $12.50 per semester)                          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   12.5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Student Activity Fee ($6.25 per credit hour up to $25. per semester                                                       2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Health &amp; Wellness Fee ($15 - $35 per semester)                                                                                          3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Additional Fees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Portfolio Fee (one time fee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31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IPLA Fee (Individualized Prior Learning Assessment Fee)                                                                      Varies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$350 first 8 credit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$300 per additional 8 credit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Cost is capped at $1,550  (there is no limit to PLA credits except core requirements must be met)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marL="530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Georgi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W3 Partnership Credits                                                                                                                       0            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Previous College Transfer Credits (included in portfolio fee)   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6116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C” or better -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Other Transfer Credits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Master’s Degree in Work &amp; Labor Polic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915040" cy="47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234000" indent="-234000">
              <a:lnSpc>
                <a:spcPct val="90000"/>
              </a:lnSpc>
              <a:spcBef>
                <a:spcPts val="10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100" spc="-1" strike="noStrike">
                <a:solidFill>
                  <a:srgbClr val="000000"/>
                </a:solidFill>
                <a:latin typeface="Georgia"/>
              </a:rPr>
              <a:t>Requirements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68360" indent="-234000">
              <a:lnSpc>
                <a:spcPct val="90000"/>
              </a:lnSpc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646b86"/>
                </a:solidFill>
                <a:latin typeface="Georgia"/>
              </a:rPr>
              <a:t>12 classes consisting of 3 credits eac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3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703080" indent="-195120">
              <a:lnSpc>
                <a:spcPct val="9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Two courses to be taken each semester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03080" indent="-195120">
              <a:lnSpc>
                <a:spcPct val="9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Required course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Policy Proces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Work &amp; Labor Studie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History of Labor &amp; Policy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Research Method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Current Issues Facing Labor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Labor Law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Policy Formation in Union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Electives (Economics, Leadership, Politics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Final Project I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Final Project II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468360" indent="-234000">
              <a:lnSpc>
                <a:spcPct val="90000"/>
              </a:lnSpc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646b86"/>
                </a:solidFill>
                <a:latin typeface="Georgia"/>
              </a:rPr>
              <a:t>Three residencies lasting 7 day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400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idenc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icy Proces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&amp; Labor Stud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Project 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Class (Elective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Project I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Class (Elective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3247</TotalTime>
  <Application>LibreOffice/7.4.7.2$Linux_X86_64 LibreOffice_project/40$Build-2</Application>
  <AppVersion>15.0000</AppVersion>
  <Words>616</Words>
  <Paragraphs>213</Paragraphs>
  <Company>ED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5:40:14Z</dcterms:created>
  <dc:creator>Chuck Hodell</dc:creator>
  <dc:description/>
  <dc:language>en-US</dc:language>
  <cp:lastModifiedBy>Rhonda Rogers</cp:lastModifiedBy>
  <cp:lastPrinted>2014-05-09T13:59:56Z</cp:lastPrinted>
  <dcterms:modified xsi:type="dcterms:W3CDTF">2015-04-24T18:01:44Z</dcterms:modified>
  <cp:revision>246</cp:revision>
  <dc:subject/>
  <dc:title>Educational Plan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