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CB7726-3812-4803-8DA5-DFBE0D624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2640" cy="34905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96240" y="4422600"/>
            <a:ext cx="5562360" cy="418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16"/>
          </p:nvPr>
        </p:nvSpPr>
        <p:spPr>
          <a:xfrm>
            <a:off x="3938760" y="8841600"/>
            <a:ext cx="3013920" cy="465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F1BA04-8FB9-49BD-AA0F-7A18760427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Num" idx="24"/>
          </p:nvPr>
        </p:nvSpPr>
        <p:spPr>
          <a:xfrm>
            <a:off x="3938760" y="8841600"/>
            <a:ext cx="3013920" cy="465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791D1A-E36F-4C07-A744-7F8026FDA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2640" cy="34905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3"/>
          <p:cNvSpPr>
            <a:spLocks noGrp="1"/>
          </p:cNvSpPr>
          <p:nvPr>
            <p:ph type="body"/>
          </p:nvPr>
        </p:nvSpPr>
        <p:spPr>
          <a:xfrm>
            <a:off x="696240" y="4422600"/>
            <a:ext cx="5562360" cy="418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2640" cy="34905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6240" y="4422600"/>
            <a:ext cx="5562360" cy="418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25"/>
          </p:nvPr>
        </p:nvSpPr>
        <p:spPr>
          <a:xfrm>
            <a:off x="3938760" y="8841600"/>
            <a:ext cx="3013920" cy="465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290326-D923-4FD6-A181-53824B1D77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2640" cy="34905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96240" y="4422600"/>
            <a:ext cx="5562360" cy="418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26"/>
          </p:nvPr>
        </p:nvSpPr>
        <p:spPr>
          <a:xfrm>
            <a:off x="3938760" y="8841600"/>
            <a:ext cx="3013920" cy="465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95088E-BECA-4E28-B778-88800E7E44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2640" cy="34905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96240" y="4422600"/>
            <a:ext cx="5562360" cy="418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27"/>
          </p:nvPr>
        </p:nvSpPr>
        <p:spPr>
          <a:xfrm>
            <a:off x="3938760" y="8841600"/>
            <a:ext cx="3013920" cy="465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3C0AB8-6D5E-48D6-BC9B-2242F17386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2640" cy="34905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96240" y="4422600"/>
            <a:ext cx="5562360" cy="418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Num" idx="28"/>
          </p:nvPr>
        </p:nvSpPr>
        <p:spPr>
          <a:xfrm>
            <a:off x="3938760" y="8841600"/>
            <a:ext cx="3013920" cy="465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A99AF9-922A-44BC-8B10-B2A5000267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Num" idx="17"/>
          </p:nvPr>
        </p:nvSpPr>
        <p:spPr>
          <a:xfrm>
            <a:off x="3938760" y="8841600"/>
            <a:ext cx="3013920" cy="465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B7E6F9-41C6-40A2-9748-B82657AD1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2640" cy="34905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3"/>
          <p:cNvSpPr>
            <a:spLocks noGrp="1"/>
          </p:cNvSpPr>
          <p:nvPr>
            <p:ph type="body"/>
          </p:nvPr>
        </p:nvSpPr>
        <p:spPr>
          <a:xfrm>
            <a:off x="696240" y="4422600"/>
            <a:ext cx="5562360" cy="418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2640" cy="3490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96240" y="4422600"/>
            <a:ext cx="5562360" cy="418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18"/>
          </p:nvPr>
        </p:nvSpPr>
        <p:spPr>
          <a:xfrm>
            <a:off x="3938760" y="8841600"/>
            <a:ext cx="3013920" cy="465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D79AC9-EA3C-4228-BED8-E40AAFA6D1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2640" cy="34905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96240" y="4422600"/>
            <a:ext cx="5562360" cy="418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19"/>
          </p:nvPr>
        </p:nvSpPr>
        <p:spPr>
          <a:xfrm>
            <a:off x="3938760" y="8841600"/>
            <a:ext cx="3013920" cy="465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738DC5-4855-4F4A-9F6D-6A5A2DBA59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Num" idx="20"/>
          </p:nvPr>
        </p:nvSpPr>
        <p:spPr>
          <a:xfrm>
            <a:off x="3938760" y="8841600"/>
            <a:ext cx="3013920" cy="465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500E11-DCD6-488A-BB68-E44F8FD26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2640" cy="34905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3"/>
          <p:cNvSpPr>
            <a:spLocks noGrp="1"/>
          </p:cNvSpPr>
          <p:nvPr>
            <p:ph type="body"/>
          </p:nvPr>
        </p:nvSpPr>
        <p:spPr>
          <a:xfrm>
            <a:off x="696240" y="4422600"/>
            <a:ext cx="5562360" cy="418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2640" cy="34905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6240" y="4422600"/>
            <a:ext cx="5562360" cy="418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21"/>
          </p:nvPr>
        </p:nvSpPr>
        <p:spPr>
          <a:xfrm>
            <a:off x="3938760" y="8841600"/>
            <a:ext cx="3013920" cy="465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BA73B1-C6B4-40DB-8883-DFB659004F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2640" cy="34905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96240" y="4422600"/>
            <a:ext cx="5562360" cy="418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sldNum" idx="22"/>
          </p:nvPr>
        </p:nvSpPr>
        <p:spPr>
          <a:xfrm>
            <a:off x="3938760" y="8841600"/>
            <a:ext cx="3013920" cy="465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EE155F-5DD4-4966-98C1-B54745812B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Num" idx="23"/>
          </p:nvPr>
        </p:nvSpPr>
        <p:spPr>
          <a:xfrm>
            <a:off x="3938760" y="8841600"/>
            <a:ext cx="3013920" cy="465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173923-F0C6-4A54-8574-09292534F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2640" cy="34905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3"/>
          <p:cNvSpPr>
            <a:spLocks noGrp="1"/>
          </p:cNvSpPr>
          <p:nvPr>
            <p:ph type="body"/>
          </p:nvPr>
        </p:nvSpPr>
        <p:spPr>
          <a:xfrm>
            <a:off x="696240" y="4422600"/>
            <a:ext cx="5562360" cy="418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1713-70DA-475A-AA87-D68B0E682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C20F-02AC-4479-A336-09DC67BB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DEF7-3ABB-4CE0-84CE-294407B1E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C1C5-F80D-4C6A-B595-BE55B4796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16AD-BD49-42F6-82E2-B5608DA1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EFD3-71C0-4E4A-B36E-A5BA5B70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1371-5DA5-4B74-8BAB-7FB8EC19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C810-C887-4F19-B8C7-D17E7117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0A78-DBFF-49B5-9FC5-D20B6D5A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DC3A-C6F6-4619-9984-A1C67351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433A-0514-4C90-83CD-9EF9C39C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7B17-2DB2-47EA-B53B-05D78635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B6CA-6161-4A60-9E4A-7F251030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225F-5E64-46E4-AB2A-80C1E73C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D405-C2A1-4440-8682-7E553D58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0F5D-E127-445C-83BE-70BDD9660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1CF9-023F-49CB-A6C7-B834CB49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3A68B-9549-45D9-B980-23492B4AA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C2F11-2570-4B02-AD31-9CBC982F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955C1-FFFC-4B4E-AF50-FA9D5E96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B201C-C8DC-4140-9F7A-01932D60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ED3B1-BD2C-4F77-B7D6-5AFC8A80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E291-40D3-49F8-BA94-3B71EE0C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1567A-9207-429A-9CF2-2D4192F6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56FD6-44E4-4D94-BB56-066DB5C1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77E57-C5DA-47A5-9AAF-59273E71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C2861-F560-4B6E-B522-A928654D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70B47-7B95-4A3D-BD64-146CDB46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BDA52-2B24-4E98-9177-CF99D0024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3A4DD-EE05-422C-908F-9249A2CE3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22FA7-7C41-499D-9574-BF91465A1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D614C-E607-424C-AF26-0DD01B5D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3A71C-39D1-42AC-891F-25DE76E3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3A86-FB2E-4DF1-9EBE-A45A0437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2212B-A861-416F-8243-48CA9B0A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2D426-9DC5-4881-8F23-28C5CF41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DC531-3024-45A2-8C45-BF2557E1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2ACF2-CF50-41E2-A9C1-DBCF5CCA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0492D-828F-463C-850C-B05EB1CB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74D36-F20F-497C-BC85-3B9210F4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38208-261E-4462-ABC0-337D239F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5ED22-EA69-4852-A647-28DD4DD6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98F95-1EAB-4D2D-AE57-A7750C304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1238-0624-47FD-A433-98274478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01E2-5DDA-4386-8EA6-D023884F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2572-75E4-4714-8E00-F3582B7D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3969-D81E-4AE6-8020-1F2078BB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93D4-3051-4AE8-B4A6-5A1ED4C4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Rectangle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Straight Connector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Oval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Oval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Rectangle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Rectangle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Rectangle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Rectangle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Straight Connector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Rectangle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Oval 12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" name="Oval 13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sldNum" idx="3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6d8687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B9E01E9-E9F0-47E3-B136-9ED5A8D360E6}" type="slidenum">
              <a:rPr b="0" lang="en-US" sz="1600" spc="-1" strike="noStrike">
                <a:solidFill>
                  <a:srgbClr val="6d8687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chemeClr val="accent1"/>
                </a:solidFill>
                <a:latin typeface="Georgia"/>
              </a:rPr>
              <a:t>Click to edit Master title styl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Straight Connector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Oval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Oval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0" y="0"/>
            <a:ext cx="9143640" cy="1551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152280" y="15840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dt" idx="4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sldNum" idx="6"/>
          </p:nvPr>
        </p:nvSpPr>
        <p:spPr>
          <a:xfrm>
            <a:off x="4267080" y="6324480"/>
            <a:ext cx="60912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chemeClr val="accent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7607996-B678-47DE-BDA0-A2B63B2A23E1}" type="slidenum">
              <a:rPr b="0" lang="en-US" sz="1600" spc="-1" strike="noStrike">
                <a:solidFill>
                  <a:schemeClr val="accent3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traight Connector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Oval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3" name="Oval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Master title style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8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9"/>
          </p:nvPr>
        </p:nvSpPr>
        <p:spPr>
          <a:xfrm>
            <a:off x="4361760" y="102636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7b98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44682EC-4EA4-4EA4-B431-B2903C7060F8}" type="slidenum">
              <a:rPr b="0" lang="en-US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Master text styl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econd level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ird leve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Straight Connector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Oval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3" name="Oval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4" name="Straight Connector 9"/>
          <p:cNvSpPr/>
          <p:nvPr/>
        </p:nvSpPr>
        <p:spPr>
          <a:xfrm flipV="1">
            <a:off x="4572000" y="2199960"/>
            <a:ext cx="360" cy="4188240"/>
          </a:xfrm>
          <a:prstGeom prst="line">
            <a:avLst/>
          </a:prstGeom>
          <a:ln w="9525">
            <a:solidFill>
              <a:srgbClr val="646b8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19"/>
          <p:cNvSpPr/>
          <p:nvPr/>
        </p:nvSpPr>
        <p:spPr>
          <a:xfrm>
            <a:off x="0" y="0"/>
            <a:ext cx="9143640" cy="14475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152280" y="1371600"/>
            <a:ext cx="8832600" cy="914040"/>
          </a:xfrm>
          <a:prstGeom prst="rect">
            <a:avLst/>
          </a:prstGeom>
          <a:solidFill>
            <a:schemeClr val="accent1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145800" y="6391800"/>
            <a:ext cx="8832600" cy="31068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301680" y="1523880"/>
            <a:ext cx="4039920" cy="732600"/>
          </a:xfrm>
          <a:prstGeom prst="rect">
            <a:avLst/>
          </a:prstGeom>
          <a:noFill/>
          <a:ln w="15840">
            <a:noFill/>
          </a:ln>
          <a:effectLst>
            <a:outerShdw dist="25560" dir="5400000" blurRad="507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Click to edit Master text styl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791240" y="1523880"/>
            <a:ext cx="4041360" cy="731160"/>
          </a:xfrm>
          <a:prstGeom prst="rect">
            <a:avLst/>
          </a:prstGeom>
          <a:noFill/>
          <a:ln w="15840">
            <a:noFill/>
          </a:ln>
          <a:effectLst>
            <a:outerShdw dist="25560" dir="5400000" blurRad="507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chemeClr val="lt1"/>
                </a:solidFill>
                <a:latin typeface="Georgia"/>
              </a:rPr>
              <a:t>Click to edit Master text styl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0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1"/>
          </p:nvPr>
        </p:nvSpPr>
        <p:spPr>
          <a:xfrm>
            <a:off x="304920" y="640980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traight Connector 14"/>
          <p:cNvSpPr/>
          <p:nvPr/>
        </p:nvSpPr>
        <p:spPr>
          <a:xfrm>
            <a:off x="152280" y="128016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1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body"/>
          </p:nvPr>
        </p:nvSpPr>
        <p:spPr>
          <a:xfrm>
            <a:off x="301680" y="2471400"/>
            <a:ext cx="4041360" cy="38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Master text styl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econd level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ird leve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body"/>
          </p:nvPr>
        </p:nvSpPr>
        <p:spPr>
          <a:xfrm>
            <a:off x="4800600" y="2471400"/>
            <a:ext cx="4038120" cy="38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Master text styl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econd level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ird leve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Oval 24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0" name="Oval 26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 type="sldNum" idx="12"/>
          </p:nvPr>
        </p:nvSpPr>
        <p:spPr>
          <a:xfrm>
            <a:off x="4343400" y="104256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7b98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ED627EC-13D8-4A6C-945B-2C3579D5DC42}" type="slidenum">
              <a:rPr b="0" lang="en-US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8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Master title style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sc.edu/" TargetMode="External"/><Relationship Id="rId2" Type="http://schemas.openxmlformats.org/officeDocument/2006/relationships/hyperlink" Target="mailto:rrogers@iamaw.org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66880"/>
            <a:ext cx="830556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8000"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lang="en-US" sz="2800" spc="248" strike="noStrike" cap="all">
                <a:solidFill>
                  <a:srgbClr val="646b86"/>
                </a:solidFill>
                <a:latin typeface="Georgia"/>
              </a:rPr>
              <a:t>and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1" lang="en-US" sz="1600" spc="248" strike="noStrike" cap="all">
                <a:solidFill>
                  <a:srgbClr val="646b86"/>
                </a:solidFill>
                <a:latin typeface="Georgia"/>
              </a:rPr>
              <a:t>International Association of Machinists and Aerospace Wor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4000" spc="248" strike="noStrike" cap="all">
                <a:solidFill>
                  <a:srgbClr val="646b86"/>
                </a:solidFill>
                <a:latin typeface="Georgia"/>
              </a:rPr>
              <a:t>Degree Pro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IAM 2c"/>
          <p:cNvPicPr/>
          <p:nvPr/>
        </p:nvPicPr>
        <p:blipFill>
          <a:blip r:embed="rId1"/>
          <a:stretch/>
        </p:blipFill>
        <p:spPr>
          <a:xfrm>
            <a:off x="196920" y="4572000"/>
            <a:ext cx="2088720" cy="2088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WETCPRE2"/>
          <p:cNvPicPr/>
          <p:nvPr/>
        </p:nvPicPr>
        <p:blipFill>
          <a:blip r:embed="rId2"/>
          <a:stretch/>
        </p:blipFill>
        <p:spPr>
          <a:xfrm>
            <a:off x="6910560" y="4495680"/>
            <a:ext cx="2233080" cy="2361960"/>
          </a:xfrm>
          <a:prstGeom prst="rect">
            <a:avLst/>
          </a:prstGeom>
          <a:ln w="0">
            <a:noFill/>
          </a:ln>
        </p:spPr>
      </p:pic>
      <p:sp>
        <p:nvSpPr>
          <p:cNvPr id="238" name="AutoShape 2"/>
          <p:cNvSpPr/>
          <p:nvPr/>
        </p:nvSpPr>
        <p:spPr>
          <a:xfrm>
            <a:off x="304920" y="-106920"/>
            <a:ext cx="162828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152280" y="15840"/>
            <a:ext cx="162828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304920" y="168120"/>
            <a:ext cx="162828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AutoShape 8"/>
          <p:cNvSpPr/>
          <p:nvPr/>
        </p:nvSpPr>
        <p:spPr>
          <a:xfrm>
            <a:off x="457200" y="320760"/>
            <a:ext cx="162828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10" descr=""/>
          <p:cNvPicPr/>
          <p:nvPr/>
        </p:nvPicPr>
        <p:blipFill>
          <a:blip r:embed="rId3"/>
          <a:stretch/>
        </p:blipFill>
        <p:spPr>
          <a:xfrm>
            <a:off x="534960" y="513000"/>
            <a:ext cx="80769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299880"/>
            <a:ext cx="8805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7b9899"/>
                </a:solidFill>
                <a:latin typeface="Georgia"/>
              </a:rPr>
              <a:t>Estimated Cost of Residenci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8707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sidency Fee (per residency)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$ 350.0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oom &amp; Board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7 days at area Hotel – Approximately $200.00 per da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Travel to and from each residency – Cost will var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000" spc="-1" strike="noStrike">
                <a:solidFill>
                  <a:srgbClr val="546d7a"/>
                </a:solidFill>
                <a:latin typeface="Georgia"/>
              </a:rPr>
              <a:t>Estimated cost for meals per day - Var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No Charge if taken at W3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ooks &amp; Material Fees (varies per course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raduation Cost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        0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stimated Cost of Masters Degree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marL="251640" indent="-251640">
              <a:lnSpc>
                <a:spcPct val="100000"/>
              </a:lnSpc>
              <a:spcBef>
                <a:spcPts val="51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pplication Fee (waived if application is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ubmitted through W3)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                                        $    50.00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1640" indent="-251640">
              <a:lnSpc>
                <a:spcPct val="100000"/>
              </a:lnSpc>
              <a:spcBef>
                <a:spcPts val="51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uition and Fees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(6 credit per semester example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03640" indent="-251640">
              <a:lnSpc>
                <a:spcPct val="100000"/>
              </a:lnSpc>
              <a:spcBef>
                <a:spcPts val="47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Tuition (Per Credit Hour $605.00)</a:t>
            </a: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                   $3630.00</a:t>
            </a: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03640" indent="-251640">
              <a:lnSpc>
                <a:spcPct val="100000"/>
              </a:lnSpc>
              <a:spcBef>
                <a:spcPts val="47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Technology Fee                                                                      175.00                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03640" indent="-251640">
              <a:lnSpc>
                <a:spcPct val="100000"/>
              </a:lnSpc>
              <a:spcBef>
                <a:spcPts val="47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College Fee ($.85 per credit)                          </a:t>
            </a: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               5.10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03640" indent="-251640">
              <a:lnSpc>
                <a:spcPct val="100000"/>
              </a:lnSpc>
              <a:spcBef>
                <a:spcPts val="47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Student Activity Fee 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($6.25 per credit hour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16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    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up $25. per semester)</a:t>
            </a: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                                                                  25.0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03640" indent="-251640">
              <a:lnSpc>
                <a:spcPct val="100000"/>
              </a:lnSpc>
              <a:spcBef>
                <a:spcPts val="47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Health &amp; Wellness Fee ($15 per semester)                       15.00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1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01680" y="1523880"/>
            <a:ext cx="4039920" cy="732600"/>
          </a:xfrm>
          <a:prstGeom prst="rect">
            <a:avLst/>
          </a:prstGeom>
          <a:noFill/>
          <a:ln w="1584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Under-Graduate Degree</a:t>
            </a: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791240" y="1523880"/>
            <a:ext cx="4041360" cy="731160"/>
          </a:xfrm>
          <a:prstGeom prst="rect">
            <a:avLst/>
          </a:prstGeom>
          <a:noFill/>
          <a:ln w="1584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Graduate Degre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65" name="Content Placeholder 6"/>
          <p:cNvGraphicFramePr/>
          <p:nvPr/>
        </p:nvGraphicFramePr>
        <p:xfrm>
          <a:off x="301680" y="2403000"/>
          <a:ext cx="4041360" cy="4905360"/>
        </p:xfrm>
        <a:graphic>
          <a:graphicData uri="http://schemas.openxmlformats.org/drawingml/2006/table">
            <a:tbl>
              <a:tblPr/>
              <a:tblGrid>
                <a:gridCol w="1455120"/>
                <a:gridCol w="1051920"/>
                <a:gridCol w="1534320"/>
              </a:tblGrid>
              <a:tr h="618120"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Name of 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In State Tu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Out of State Tu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58200"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Empire 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3,0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4,3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- </a:t>
                      </a: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W3 dis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</a:tr>
              <a:tr h="618120"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University of Mary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3,6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13,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</a:tr>
              <a:tr h="401040"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UM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10,3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24,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</a:tr>
              <a:tr h="358200"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Ka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(onl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66,7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66,7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</a:tr>
              <a:tr h="845280"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Indiana University (onl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3,3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11,6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6" name="Content Placeholder 7"/>
          <p:cNvGraphicFramePr/>
          <p:nvPr/>
        </p:nvGraphicFramePr>
        <p:xfrm>
          <a:off x="4800600" y="2361960"/>
          <a:ext cx="4038120" cy="4594320"/>
        </p:xfrm>
        <a:graphic>
          <a:graphicData uri="http://schemas.openxmlformats.org/drawingml/2006/table">
            <a:tbl>
              <a:tblPr/>
              <a:tblGrid>
                <a:gridCol w="1416960"/>
                <a:gridCol w="1062720"/>
                <a:gridCol w="1558440"/>
              </a:tblGrid>
              <a:tr h="578520"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Name of 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In State Tu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Out of State Tu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50280"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Empire 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2,5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3,6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</a:tr>
              <a:tr h="670320"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University of Mary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3,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7,5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</a:tr>
              <a:tr h="385560"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UM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2,6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2,6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</a:tr>
              <a:tr h="665640"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Kaplan (onl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20,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20,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</a:tr>
              <a:tr h="804240"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Indiana University (onl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2,4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7,0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</a:tr>
            </a:tbl>
          </a:graphicData>
        </a:graphic>
      </p:graphicFrame>
      <p:sp>
        <p:nvSpPr>
          <p:cNvPr id="267" name="PlaceHolder 3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ost Comparison – Per Semest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cholarship/Financial Assistance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263520" indent="-263520">
              <a:lnSpc>
                <a:spcPct val="9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AM Scholarship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3520" indent="-263520">
              <a:lnSpc>
                <a:spcPct val="9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ederal Financial Ai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3520" indent="-263520">
              <a:lnSpc>
                <a:spcPct val="9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nion Plus College Scholarship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3520" indent="-263520">
              <a:lnSpc>
                <a:spcPct val="9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Veteran’s Benefi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3520" indent="-263520">
              <a:lnSpc>
                <a:spcPct val="9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FL-CIO Websit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3520" indent="-263520">
              <a:lnSpc>
                <a:spcPct val="9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udent Loa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3520" indent="-263520">
              <a:lnSpc>
                <a:spcPct val="9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heck with your district for possible scholarship opportunit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50068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or More Information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257760" indent="-25776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mpire State Colleg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15520" indent="-25776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ebsite – </a:t>
            </a:r>
            <a:r>
              <a:rPr b="0" lang="en-US" sz="22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www.esc.edu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15520" indent="-25776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Jim McMahon – 646-230-1355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776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7760" indent="-25776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AMAW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15520" indent="-25776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honda Rogers – </a:t>
            </a:r>
            <a:r>
              <a:rPr b="0" lang="en-US" sz="2200" spc="-1" strike="noStrike" u="sng">
                <a:solidFill>
                  <a:srgbClr val="00a3d6"/>
                </a:solidFill>
                <a:uFillTx/>
                <a:latin typeface="Georgia"/>
                <a:hlinkClick r:id="rId2"/>
              </a:rPr>
              <a:t>rrogers@iamaw.org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15520" indent="-25776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honda Rogers – 301-373-8819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Georgi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776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7760" indent="-25776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inpisinger Center -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01-373-3300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776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776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552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8720" cy="4723920"/>
          </a:xfrm>
          <a:prstGeom prst="rect">
            <a:avLst/>
          </a:prstGeom>
          <a:noFill/>
          <a:ln w="0">
            <a:solidFill>
              <a:srgbClr val="99ff33"/>
            </a:solidFill>
          </a:ln>
        </p:spPr>
        <p:txBody>
          <a:bodyPr lIns="90000" rIns="90000" tIns="45000" bIns="45000" anchor="t">
            <a:normAutofit fontScale="93000"/>
          </a:bodyPr>
          <a:p>
            <a:pPr marL="254880" indent="-254880">
              <a:lnSpc>
                <a:spcPct val="100000"/>
              </a:lnSpc>
              <a:spcBef>
                <a:spcPts val="439"/>
              </a:spcBef>
              <a:buClr>
                <a:srgbClr val="ffc000"/>
              </a:buClr>
              <a:buSzPct val="85000"/>
              <a:buFont typeface="Wingdings 2" charset="2"/>
              <a:buChar char=""/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ounded in 1971 by SUNY Board of Trustees and Ernest L. Boyer (Future US Commissioner of Education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4880" indent="-254880">
              <a:lnSpc>
                <a:spcPct val="100000"/>
              </a:lnSpc>
              <a:spcBef>
                <a:spcPts val="439"/>
              </a:spcBef>
              <a:buClr>
                <a:srgbClr val="ffc000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enter for Labor Studies renamed Harry Van Arsdale, Jr. Center in 1986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4880" indent="-254880">
              <a:lnSpc>
                <a:spcPct val="100000"/>
              </a:lnSpc>
              <a:spcBef>
                <a:spcPts val="439"/>
              </a:spcBef>
              <a:buClr>
                <a:srgbClr val="ffc000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Labor focused non-traditional teaching &amp; online learning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4880" indent="-254880">
              <a:lnSpc>
                <a:spcPct val="100000"/>
              </a:lnSpc>
              <a:spcBef>
                <a:spcPts val="439"/>
              </a:spcBef>
              <a:buClr>
                <a:srgbClr val="ffc000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ully accredited by Middle States Commission on Higher Education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4880" indent="-254880">
              <a:lnSpc>
                <a:spcPct val="100000"/>
              </a:lnSpc>
              <a:spcBef>
                <a:spcPts val="439"/>
              </a:spcBef>
              <a:buClr>
                <a:srgbClr val="ffc000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erves working adults at 35 New York locations and onlin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4880" indent="-254880">
              <a:lnSpc>
                <a:spcPct val="100000"/>
              </a:lnSpc>
              <a:spcBef>
                <a:spcPts val="439"/>
              </a:spcBef>
              <a:buClr>
                <a:srgbClr val="ffc000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Offers associate, bachelor’s and master’s degree program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00640" cy="137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177480"/>
            <a:ext cx="914364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ssociate Degree in Labor Studies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7627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quirement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7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64 credit hour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7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30 credits must include general education requirements in seven of ten area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39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ust include mathematics and basic communicat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39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hoice of five from natural science, social science, American history, western civilization, other world civilizations, humanities, the arts, and foreign languag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39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ransfer credits may be used to meet this requiremen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7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24 of 64 credits must be earned at Empire State Colleg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8536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177480"/>
            <a:ext cx="9143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achelor’s Degree in Labor Studies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838720" cy="51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quirement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7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124 credit hour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7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30 credits must include general education requirements in seven of ten area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39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ust include mathematics and basic communicat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39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hoice of five from natural science, social science, American history, western civilization, other world civilizations, humanities, the arts, and foreign languag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ransfer credits may be used to meet this requirement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7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32 of 124 credits must be earned at Empire State Colleg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94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00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Counts for Credit?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70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llege Transfer Credits  (“C” or better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United States Universit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ternational Universit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pprenticeship Credi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ilitary Credi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llege Level Examination Program (CLEP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dividualized Prior Learning (IPLA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artnership Credits through W3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artnership Credits through Academic/Union Partner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72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esidency Requirements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70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8000"/>
          </a:bodyPr>
          <a:p>
            <a:pPr marL="260640" indent="-26064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rt of Entry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21640" indent="-2606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ducational Planning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21640" indent="-2606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Labor &amp; Public Affair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21640" indent="-2606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ollege Writing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0640" indent="-26064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ermediate Arts &amp; Scienc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21640" indent="-260640">
              <a:lnSpc>
                <a:spcPct val="100000"/>
              </a:lnSpc>
              <a:spcBef>
                <a:spcPts val="45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Development of the Labor Movement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521640" indent="-260640">
              <a:lnSpc>
                <a:spcPct val="100000"/>
              </a:lnSpc>
              <a:spcBef>
                <a:spcPts val="45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Labor &amp; the Economy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521640" indent="-260640">
              <a:lnSpc>
                <a:spcPct val="100000"/>
              </a:lnSpc>
              <a:spcBef>
                <a:spcPts val="45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Labor by the Numbers (satisfies Math Gen. Ed. Requirement)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521640" indent="-260640">
              <a:lnSpc>
                <a:spcPct val="100000"/>
              </a:lnSpc>
              <a:spcBef>
                <a:spcPts val="45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Science &amp; Civilization (satisfies Science Gen. Ed. Requirement)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0640" indent="-26064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pstone Residency (Required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21640" indent="-2606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enior Project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21640" indent="-2606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enior Thesi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21640" indent="-2606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enior Seminar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8156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Estimated Cost for Required Class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70760" cy="51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9000"/>
          </a:bodyPr>
          <a:p>
            <a:pPr marL="244440" indent="-244440">
              <a:lnSpc>
                <a:spcPct val="100000"/>
              </a:lnSpc>
              <a:spcBef>
                <a:spcPts val="98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Application Fee (waived if application is submitted through W3)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                           $   50.00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                                                   </a:t>
            </a:r>
            <a:endParaRPr b="0" lang="en-US" sz="4900" spc="-1" strike="noStrike">
              <a:solidFill>
                <a:srgbClr val="000000"/>
              </a:solidFill>
              <a:latin typeface="Georgia"/>
            </a:endParaRPr>
          </a:p>
          <a:p>
            <a:pPr marL="244440" indent="-244440">
              <a:lnSpc>
                <a:spcPct val="100000"/>
              </a:lnSpc>
              <a:spcBef>
                <a:spcPts val="98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Tuition and Fees (4 credits per class)</a:t>
            </a:r>
            <a:endParaRPr b="0" lang="en-US" sz="4900" spc="-1" strike="noStrike">
              <a:solidFill>
                <a:srgbClr val="000000"/>
              </a:solidFill>
              <a:latin typeface="Georgia"/>
            </a:endParaRPr>
          </a:p>
          <a:p>
            <a:pPr lvl="1" marL="489240" indent="-244440">
              <a:lnSpc>
                <a:spcPct val="100000"/>
              </a:lnSpc>
              <a:spcBef>
                <a:spcPts val="85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Tuition (Per Credit Hour $297 for residency courses)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              1188.00</a:t>
            </a:r>
            <a:endParaRPr b="0" lang="en-US" sz="4300" spc="-1" strike="noStrike">
              <a:solidFill>
                <a:srgbClr val="000000"/>
              </a:solidFill>
              <a:latin typeface="Georgia"/>
            </a:endParaRPr>
          </a:p>
          <a:p>
            <a:pPr lvl="1" marL="489240" indent="-244440">
              <a:lnSpc>
                <a:spcPct val="100000"/>
              </a:lnSpc>
              <a:spcBef>
                <a:spcPts val="85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Tuition (Per Credit Hour $360 for on-line only courses)                                                                       1440.00</a:t>
            </a:r>
            <a:endParaRPr b="0" lang="en-US" sz="4300" spc="-1" strike="noStrike">
              <a:solidFill>
                <a:srgbClr val="000000"/>
              </a:solidFill>
              <a:latin typeface="Georgia"/>
            </a:endParaRPr>
          </a:p>
          <a:p>
            <a:pPr lvl="1" marL="489240" indent="-244440">
              <a:lnSpc>
                <a:spcPct val="100000"/>
              </a:lnSpc>
              <a:spcBef>
                <a:spcPts val="85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Technology Fee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(Per Semester)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                                       175.00</a:t>
            </a:r>
            <a:endParaRPr b="0" lang="en-US" sz="4300" spc="-1" strike="noStrike">
              <a:solidFill>
                <a:srgbClr val="000000"/>
              </a:solidFill>
              <a:latin typeface="Georgia"/>
            </a:endParaRPr>
          </a:p>
          <a:p>
            <a:pPr lvl="1" marL="489240" indent="-244440">
              <a:lnSpc>
                <a:spcPct val="100000"/>
              </a:lnSpc>
              <a:spcBef>
                <a:spcPts val="85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College Fee ($.85 per credit up to $12.50 per semester)                          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                                         12.50</a:t>
            </a:r>
            <a:endParaRPr b="0" lang="en-US" sz="4300" spc="-1" strike="noStrike">
              <a:solidFill>
                <a:srgbClr val="000000"/>
              </a:solidFill>
              <a:latin typeface="Georgia"/>
            </a:endParaRPr>
          </a:p>
          <a:p>
            <a:pPr lvl="1" marL="489240" indent="-244440">
              <a:lnSpc>
                <a:spcPct val="100000"/>
              </a:lnSpc>
              <a:spcBef>
                <a:spcPts val="85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Student Activity Fee ($6.25 per credit hour up to $25. per semester                                                       25.00</a:t>
            </a:r>
            <a:endParaRPr b="0" lang="en-US" sz="4300" spc="-1" strike="noStrike">
              <a:solidFill>
                <a:srgbClr val="000000"/>
              </a:solidFill>
              <a:latin typeface="Georgia"/>
            </a:endParaRPr>
          </a:p>
          <a:p>
            <a:pPr lvl="1" marL="489240" indent="-244440">
              <a:lnSpc>
                <a:spcPct val="100000"/>
              </a:lnSpc>
              <a:spcBef>
                <a:spcPts val="85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Health &amp; Wellness Fee ($15 - $35 per semester)                                                                                          35.00</a:t>
            </a:r>
            <a:endParaRPr b="0" lang="en-US" sz="4300" spc="-1" strike="noStrike">
              <a:solidFill>
                <a:srgbClr val="000000"/>
              </a:solidFill>
              <a:latin typeface="Georgia"/>
            </a:endParaRPr>
          </a:p>
          <a:p>
            <a:pPr marL="24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44440" indent="-244440">
              <a:lnSpc>
                <a:spcPct val="100000"/>
              </a:lnSpc>
              <a:spcBef>
                <a:spcPts val="98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Additional Fees</a:t>
            </a:r>
            <a:endParaRPr b="0" lang="en-US" sz="4900" spc="-1" strike="noStrike">
              <a:solidFill>
                <a:srgbClr val="000000"/>
              </a:solidFill>
              <a:latin typeface="Georgia"/>
            </a:endParaRPr>
          </a:p>
          <a:p>
            <a:pPr lvl="1" marL="489240" indent="-244440">
              <a:lnSpc>
                <a:spcPct val="100000"/>
              </a:lnSpc>
              <a:spcBef>
                <a:spcPts val="85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Portfolio Fee (one time fee)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                                      315.00</a:t>
            </a:r>
            <a:endParaRPr b="0" lang="en-US" sz="4300" spc="-1" strike="noStrike">
              <a:solidFill>
                <a:srgbClr val="000000"/>
              </a:solidFill>
              <a:latin typeface="Georgia"/>
            </a:endParaRPr>
          </a:p>
          <a:p>
            <a:pPr lvl="1" marL="489240" indent="-244440">
              <a:lnSpc>
                <a:spcPct val="100000"/>
              </a:lnSpc>
              <a:spcBef>
                <a:spcPts val="85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IPLA Fee (Individualized Prior Learning Assessment Fee)                                                                      Varies</a:t>
            </a:r>
            <a:endParaRPr b="0" lang="en-US" sz="4300" spc="-1" strike="noStrike">
              <a:solidFill>
                <a:srgbClr val="000000"/>
              </a:solidFill>
              <a:latin typeface="Georgia"/>
            </a:endParaRPr>
          </a:p>
          <a:p>
            <a:pPr lvl="2" marL="734040" indent="-203760">
              <a:lnSpc>
                <a:spcPct val="100000"/>
              </a:lnSpc>
              <a:spcBef>
                <a:spcPts val="68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$350 first 8 credits</a:t>
            </a:r>
            <a:endParaRPr b="0" lang="en-US" sz="3400" spc="-1" strike="noStrike">
              <a:solidFill>
                <a:srgbClr val="646b86"/>
              </a:solidFill>
              <a:latin typeface="Georgia"/>
            </a:endParaRPr>
          </a:p>
          <a:p>
            <a:pPr lvl="2" marL="734040" indent="-203760">
              <a:lnSpc>
                <a:spcPct val="100000"/>
              </a:lnSpc>
              <a:spcBef>
                <a:spcPts val="68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$300 per additional 8 credits</a:t>
            </a:r>
            <a:endParaRPr b="0" lang="en-US" sz="3400" spc="-1" strike="noStrike">
              <a:solidFill>
                <a:srgbClr val="646b86"/>
              </a:solidFill>
              <a:latin typeface="Georgia"/>
            </a:endParaRPr>
          </a:p>
          <a:p>
            <a:pPr lvl="2" marL="734040" indent="-203760">
              <a:lnSpc>
                <a:spcPct val="100000"/>
              </a:lnSpc>
              <a:spcBef>
                <a:spcPts val="68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Cost is capped at $1,550  (there is no limit to PLA credits except core requirements must be met)</a:t>
            </a:r>
            <a:endParaRPr b="0" lang="en-US" sz="3400" spc="-1" strike="noStrike">
              <a:solidFill>
                <a:srgbClr val="646b86"/>
              </a:solidFill>
              <a:latin typeface="Georgia"/>
            </a:endParaRPr>
          </a:p>
          <a:p>
            <a:pPr marL="530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Georgia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44440" indent="-244440">
              <a:lnSpc>
                <a:spcPct val="100000"/>
              </a:lnSpc>
              <a:spcBef>
                <a:spcPts val="98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W3 Partnership Credits                                                                                                                       0                   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4900" spc="-1" strike="noStrike">
              <a:solidFill>
                <a:srgbClr val="000000"/>
              </a:solidFill>
              <a:latin typeface="Georgia"/>
            </a:endParaRPr>
          </a:p>
          <a:p>
            <a:pPr marL="244440" indent="-244440">
              <a:lnSpc>
                <a:spcPct val="100000"/>
              </a:lnSpc>
              <a:spcBef>
                <a:spcPts val="98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Previous College Transfer Credits (included in portfolio fee)    </a:t>
            </a:r>
            <a:endParaRPr b="0" lang="en-US" sz="4900" spc="-1" strike="noStrike">
              <a:solidFill>
                <a:srgbClr val="000000"/>
              </a:solidFill>
              <a:latin typeface="Georgia"/>
            </a:endParaRPr>
          </a:p>
          <a:p>
            <a:pPr lvl="1" marL="611640" indent="-244440">
              <a:lnSpc>
                <a:spcPct val="100000"/>
              </a:lnSpc>
              <a:spcBef>
                <a:spcPts val="85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“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C” or better - 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44440" indent="-244440">
              <a:lnSpc>
                <a:spcPct val="100000"/>
              </a:lnSpc>
              <a:spcBef>
                <a:spcPts val="98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Other Transfer Credits </a:t>
            </a:r>
            <a:endParaRPr b="0" lang="en-US" sz="49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4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Master’s Degree in Work &amp; Labor Polic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915040" cy="478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7000"/>
          </a:bodyPr>
          <a:p>
            <a:pPr marL="234000" indent="-234000">
              <a:lnSpc>
                <a:spcPct val="90000"/>
              </a:lnSpc>
              <a:spcBef>
                <a:spcPts val="102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5100" spc="-1" strike="noStrike">
                <a:solidFill>
                  <a:srgbClr val="000000"/>
                </a:solidFill>
                <a:latin typeface="Georgia"/>
              </a:rPr>
              <a:t>Requirements</a:t>
            </a:r>
            <a:endParaRPr b="0" lang="en-US" sz="51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468360" indent="-234000">
              <a:lnSpc>
                <a:spcPct val="90000"/>
              </a:lnSpc>
              <a:spcBef>
                <a:spcPts val="7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31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4000" spc="-1" strike="noStrike">
                <a:solidFill>
                  <a:srgbClr val="646b86"/>
                </a:solidFill>
                <a:latin typeface="Georgia"/>
              </a:rPr>
              <a:t>12 classes consisting of 3 credits each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3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2" marL="703080" indent="-195120">
              <a:lnSpc>
                <a:spcPct val="90000"/>
              </a:lnSpc>
              <a:spcBef>
                <a:spcPts val="68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Two courses to be taken each semester</a:t>
            </a:r>
            <a:endParaRPr b="0" lang="en-US" sz="3400" spc="-1" strike="noStrike">
              <a:solidFill>
                <a:srgbClr val="646b86"/>
              </a:solidFill>
              <a:latin typeface="Georgia"/>
            </a:endParaRPr>
          </a:p>
          <a:p>
            <a:pPr lvl="2" marL="703080" indent="-195120">
              <a:lnSpc>
                <a:spcPct val="90000"/>
              </a:lnSpc>
              <a:spcBef>
                <a:spcPts val="68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Required courses</a:t>
            </a:r>
            <a:endParaRPr b="0" lang="en-US" sz="3400" spc="-1" strike="noStrike">
              <a:solidFill>
                <a:srgbClr val="646b86"/>
              </a:solidFill>
              <a:latin typeface="Georgia"/>
            </a:endParaRPr>
          </a:p>
          <a:p>
            <a:pPr lvl="3" marL="937440" indent="-195120">
              <a:lnSpc>
                <a:spcPct val="90000"/>
              </a:lnSpc>
              <a:spcBef>
                <a:spcPts val="62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3100" spc="-1" strike="noStrike">
                <a:solidFill>
                  <a:srgbClr val="646b86"/>
                </a:solidFill>
                <a:latin typeface="Georgia"/>
              </a:rPr>
              <a:t>Policy Process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3" marL="937440" indent="-195120">
              <a:lnSpc>
                <a:spcPct val="90000"/>
              </a:lnSpc>
              <a:spcBef>
                <a:spcPts val="62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3100" spc="-1" strike="noStrike">
                <a:solidFill>
                  <a:srgbClr val="646b86"/>
                </a:solidFill>
                <a:latin typeface="Georgia"/>
              </a:rPr>
              <a:t>Work &amp; Labor Studies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3" marL="937440" indent="-195120">
              <a:lnSpc>
                <a:spcPct val="90000"/>
              </a:lnSpc>
              <a:spcBef>
                <a:spcPts val="62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3100" spc="-1" strike="noStrike">
                <a:solidFill>
                  <a:srgbClr val="646b86"/>
                </a:solidFill>
                <a:latin typeface="Georgia"/>
              </a:rPr>
              <a:t>History of Labor &amp; Policy 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3" marL="937440" indent="-195120">
              <a:lnSpc>
                <a:spcPct val="90000"/>
              </a:lnSpc>
              <a:spcBef>
                <a:spcPts val="62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3100" spc="-1" strike="noStrike">
                <a:solidFill>
                  <a:srgbClr val="646b86"/>
                </a:solidFill>
                <a:latin typeface="Georgia"/>
              </a:rPr>
              <a:t>Research Methods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3" marL="937440" indent="-195120">
              <a:lnSpc>
                <a:spcPct val="90000"/>
              </a:lnSpc>
              <a:spcBef>
                <a:spcPts val="62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3100" spc="-1" strike="noStrike">
                <a:solidFill>
                  <a:srgbClr val="646b86"/>
                </a:solidFill>
                <a:latin typeface="Georgia"/>
              </a:rPr>
              <a:t>Current Issues Facing Labor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3" marL="937440" indent="-195120">
              <a:lnSpc>
                <a:spcPct val="90000"/>
              </a:lnSpc>
              <a:spcBef>
                <a:spcPts val="62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3100" spc="-1" strike="noStrike">
                <a:solidFill>
                  <a:srgbClr val="646b86"/>
                </a:solidFill>
                <a:latin typeface="Georgia"/>
              </a:rPr>
              <a:t>Labor Law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3" marL="937440" indent="-195120">
              <a:lnSpc>
                <a:spcPct val="90000"/>
              </a:lnSpc>
              <a:spcBef>
                <a:spcPts val="62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3100" spc="-1" strike="noStrike">
                <a:solidFill>
                  <a:srgbClr val="646b86"/>
                </a:solidFill>
                <a:latin typeface="Georgia"/>
              </a:rPr>
              <a:t>Policy Formation in Unions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3" marL="937440" indent="-195120">
              <a:lnSpc>
                <a:spcPct val="90000"/>
              </a:lnSpc>
              <a:spcBef>
                <a:spcPts val="62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3100" spc="-1" strike="noStrike">
                <a:solidFill>
                  <a:srgbClr val="646b86"/>
                </a:solidFill>
                <a:latin typeface="Georgia"/>
              </a:rPr>
              <a:t>Electives (Economics, Leadership, Politics)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3" marL="937440" indent="-195120">
              <a:lnSpc>
                <a:spcPct val="90000"/>
              </a:lnSpc>
              <a:spcBef>
                <a:spcPts val="62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3100" spc="-1" strike="noStrike">
                <a:solidFill>
                  <a:srgbClr val="646b86"/>
                </a:solidFill>
                <a:latin typeface="Georgia"/>
              </a:rPr>
              <a:t>Final Project I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3" marL="937440" indent="-195120">
              <a:lnSpc>
                <a:spcPct val="90000"/>
              </a:lnSpc>
              <a:spcBef>
                <a:spcPts val="62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3100" spc="-1" strike="noStrike">
                <a:solidFill>
                  <a:srgbClr val="646b86"/>
                </a:solidFill>
                <a:latin typeface="Georgia"/>
              </a:rPr>
              <a:t>Final Project II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773280" indent="0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468360" indent="-234000">
              <a:lnSpc>
                <a:spcPct val="90000"/>
              </a:lnSpc>
              <a:spcBef>
                <a:spcPts val="7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31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4000" spc="-1" strike="noStrike">
                <a:solidFill>
                  <a:srgbClr val="646b86"/>
                </a:solidFill>
                <a:latin typeface="Georgia"/>
              </a:rPr>
              <a:t>Three residencies lasting 7 day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3400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Residenc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sidency 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olicy Proces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ork &amp; Labor Studi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sidency I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Final Project I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dditional Class (Elective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sidency II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Final Project II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dditional Class (Elective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ivic">
  <a:themeElements>
    <a:clrScheme name="Civic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ivic">
  <a:themeElements>
    <a:clrScheme name="Civic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Civic">
  <a:themeElements>
    <a:clrScheme name="Civic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Civic">
  <a:themeElements>
    <a:clrScheme name="Civic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3247</TotalTime>
  <Application>LibreOffice/7.4.7.2$Linux_X86_64 LibreOffice_project/40$Build-2</Application>
  <AppVersion>15.0000</AppVersion>
  <Words>616</Words>
  <Paragraphs>213</Paragraphs>
  <Company>EDU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15:40:14Z</dcterms:created>
  <dc:creator>Chuck Hodell</dc:creator>
  <dc:description/>
  <dc:language>en-US</dc:language>
  <cp:lastModifiedBy>Rhonda Rogers</cp:lastModifiedBy>
  <cp:lastPrinted>2014-05-09T13:59:56Z</cp:lastPrinted>
  <dcterms:modified xsi:type="dcterms:W3CDTF">2015-04-24T18:01:44Z</dcterms:modified>
  <cp:revision>246</cp:revision>
  <dc:subject/>
  <dc:title>Educational Plan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3</vt:r8>
  </property>
  <property fmtid="{D5CDD505-2E9C-101B-9397-08002B2CF9AE}" pid="3" name="PresentationFormat">
    <vt:lpwstr>On-screen Show (4:3)</vt:lpwstr>
  </property>
  <property fmtid="{D5CDD505-2E9C-101B-9397-08002B2CF9AE}" pid="4" name="Slides">
    <vt:r8>14</vt:r8>
  </property>
</Properties>
</file>