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B3E0A2-16A1-42C7-85A1-DB091BFF4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6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E671D4-F582-409B-9B4D-58B5F7555A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Num" idx="24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8C2861-9114-41B6-A830-9C34F6F57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25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293769-24F0-4C4E-992B-6BFA6293FB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6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26227F-351A-4404-8DA8-9A575EFB6E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27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E52C1D-692E-4B61-B5E2-F3D6AC432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8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CB9B11-0B4E-42BC-90FE-9F2A992AFD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Num" idx="17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7936A0-A381-4605-8ABF-78E3A91BE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923D05-7E16-43B5-A5F9-B7DA9D28DA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19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8F1352-FAD8-4170-9244-E5A422B41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Num" idx="20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F99383-662C-4AC6-9942-D939DFA62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21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F4C25E-9B55-42D9-A836-EEB96CE1E5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22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3DE9BE-8D06-4B3D-8B2F-EB92B63589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Num" idx="23"/>
          </p:nvPr>
        </p:nvSpPr>
        <p:spPr>
          <a:xfrm>
            <a:off x="3938760" y="8841600"/>
            <a:ext cx="3013920" cy="465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E5EB88-EA07-4600-8224-7E7E85F34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2640" cy="34905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3"/>
          <p:cNvSpPr>
            <a:spLocks noGrp="1"/>
          </p:cNvSpPr>
          <p:nvPr>
            <p:ph type="body"/>
          </p:nvPr>
        </p:nvSpPr>
        <p:spPr>
          <a:xfrm>
            <a:off x="696240" y="4422600"/>
            <a:ext cx="5562360" cy="4188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AD7-5B72-4A58-A478-30723232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EFAD-8180-4584-BC4F-FE9FE33F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CE4C-4163-416B-8E34-91ECC12E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54E-E639-49A8-88E8-38D0E4B0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D6EB-7FA7-4757-917D-918EEB50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D812-43D3-4892-A108-382D12A7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F760-F852-423B-9DF5-61BA8DC4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3648-72C1-4EB1-BD33-1FFA2923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E9AC2-F547-4203-B1C5-8094393F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124-79F6-491C-B281-EC1806C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8DEB-40E5-4908-A73C-D3A7C6FA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F25-FD58-41D1-A72A-DD71B614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505F-2DB1-479F-9CBF-3DDF5FDB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BD1D-658C-4BD3-81B5-6E5559B7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ADDC-A747-4C0B-BB7B-11ADEB2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FAAF-7D3B-4BFD-B12F-E978D7EF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48F9-28A5-468A-A378-F92666B9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3CEF-6CE0-4C01-B6EB-00A8ED5FA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D1081-99DA-4387-B0AE-105D4DE1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B1332-B92D-40C1-A004-88B6C0A3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17A9-EB34-4F5B-9C8A-5F193A22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8708-EEB9-4CC9-84EC-F439DC3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0079-24EA-4592-AC39-E15EAD96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E40A3-095B-4438-B5DE-B9AD75CD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660B-11DC-40D0-9108-16FB1D99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239E-9DC6-47A7-84FA-8B9ABB0E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FC4F4-9078-4BC6-9733-6A2E964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3605E-182A-4BEF-A255-D223BE93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7D7B-D7FD-41F6-BEFD-36629E9C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26941-828A-4D15-8831-BDB6F245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7D8D7-D9A9-43DD-BD44-C795D2A72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A84FD-7E6A-494D-92A7-17A6BAA9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C87E-B383-4602-8015-8A36CC1A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9B11-7099-4DCA-82C6-0AE91B3C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B056D-E91C-48CC-920C-91694020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D23B9-0C09-485C-866C-E0761C6D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E0D02-B37A-4981-BA2F-CEE20AF9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76A7-AB2C-4638-AD55-DCC32D8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E265-7EB5-463C-AF27-C7C7F324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EF5BB-13F9-42C0-8131-E469C4B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71232-7EAD-4565-9E69-F7A3C985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FB622-3330-468A-953A-4A8EF301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17664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51960" y="152712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0168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17664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51960" y="3915360"/>
            <a:ext cx="2737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4DBA5-BF98-46F5-A2AA-65FD1DB0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2BF-E298-46C7-9417-255CBE6F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3416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E6F-5119-43EB-9497-D09A485D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4E1-FB9C-48A9-8908-129B6451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9120" y="391536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92F2-0B72-4BC8-8D6C-3014E70D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9120" y="1527120"/>
            <a:ext cx="414972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1680" y="3915360"/>
            <a:ext cx="8503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60E-6A4A-4ACA-AE9E-F9760EAF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256575F-7ECD-4BEB-9CB3-CCBF54B78523}" type="slidenum">
              <a:rPr b="0" lang="en-US" sz="1600" spc="-1" strike="noStrike">
                <a:solidFill>
                  <a:srgbClr val="6d8687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0" y="0"/>
            <a:ext cx="9143640" cy="1551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152280" y="15840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sldNum" idx="6"/>
          </p:nvPr>
        </p:nvSpPr>
        <p:spPr>
          <a:xfrm>
            <a:off x="4267080" y="6324480"/>
            <a:ext cx="60912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chemeClr val="accent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78C261-31D9-4009-B165-0545743C16E5}" type="slidenum">
              <a:rPr b="0" lang="en-US" sz="1600" spc="-1" strike="noStrike">
                <a:solidFill>
                  <a:schemeClr val="accent3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8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9"/>
          </p:nvPr>
        </p:nvSpPr>
        <p:spPr>
          <a:xfrm>
            <a:off x="4361760" y="10263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2DA4E3-A82F-4EB0-A272-C63849383E66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6" hidden="1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15" hidden="1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7" hidden="1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8" hidden="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8" hidden="1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7" hidden="1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Oval 11" hidden="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3" name="Oval 14" hidden="1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4" name="Straight Connector 9"/>
          <p:cNvSpPr/>
          <p:nvPr/>
        </p:nvSpPr>
        <p:spPr>
          <a:xfrm flipV="1">
            <a:off x="4572000" y="2199960"/>
            <a:ext cx="360" cy="4188240"/>
          </a:xfrm>
          <a:prstGeom prst="line">
            <a:avLst/>
          </a:prstGeom>
          <a:ln w="9525">
            <a:solidFill>
              <a:srgbClr val="646b86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3640" cy="1447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152280" y="1371600"/>
            <a:ext cx="8832600" cy="91404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45800" y="6391800"/>
            <a:ext cx="8832600" cy="31068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301680" y="1523880"/>
            <a:ext cx="4039920" cy="732600"/>
          </a:xfrm>
          <a:prstGeom prst="rect">
            <a:avLst/>
          </a:prstGeom>
          <a:noFill/>
          <a:ln w="15840">
            <a:noFill/>
          </a:ln>
          <a:effectLst>
            <a:outerShdw dist="255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791240" y="1523880"/>
            <a:ext cx="4041360" cy="731160"/>
          </a:xfrm>
          <a:prstGeom prst="rect">
            <a:avLst/>
          </a:prstGeom>
          <a:noFill/>
          <a:ln w="15840">
            <a:noFill/>
          </a:ln>
          <a:effectLst>
            <a:outerShdw dist="25560" dir="5400000" blurRad="50760" rotWithShape="0">
              <a:srgbClr val="000000">
                <a:alpha val="35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chemeClr val="lt1"/>
                </a:solidFill>
                <a:latin typeface="Georgia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0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traight Connector 14"/>
          <p:cNvSpPr/>
          <p:nvPr/>
        </p:nvSpPr>
        <p:spPr>
          <a:xfrm>
            <a:off x="152280" y="1280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301680" y="2471400"/>
            <a:ext cx="404136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 type="body"/>
          </p:nvPr>
        </p:nvSpPr>
        <p:spPr>
          <a:xfrm>
            <a:off x="4800600" y="2471400"/>
            <a:ext cx="4038120" cy="382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Oval 24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 type="sldNum" idx="12"/>
          </p:nvPr>
        </p:nvSpPr>
        <p:spPr>
          <a:xfrm>
            <a:off x="4343400" y="104256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B278B3-5C5E-4854-99ED-D10049DB152A}" type="slidenum">
              <a:rPr b="0" lang="en-US" sz="1600" spc="-1" strike="noStrike">
                <a:solidFill>
                  <a:srgbClr val="7b989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8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c.edu/" TargetMode="External"/><Relationship Id="rId2" Type="http://schemas.openxmlformats.org/officeDocument/2006/relationships/hyperlink" Target="mailto:rrogers@iamaw.org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66880"/>
            <a:ext cx="8305560" cy="220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1" lang="en-US" sz="2800" spc="248" strike="noStrike" cap="all">
                <a:solidFill>
                  <a:srgbClr val="646b86"/>
                </a:solidFill>
                <a:latin typeface="Georgia"/>
              </a:rPr>
              <a:t>a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646b86"/>
                </a:solidFill>
                <a:latin typeface="Georgia"/>
              </a:rPr>
              <a:t>International Association of Machinists and Aerospace Wor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4000" spc="248" strike="noStrike" cap="all">
                <a:solidFill>
                  <a:srgbClr val="646b86"/>
                </a:solidFill>
                <a:latin typeface="Georgia"/>
              </a:rPr>
              <a:t>Degree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IAM 2c"/>
          <p:cNvPicPr/>
          <p:nvPr/>
        </p:nvPicPr>
        <p:blipFill>
          <a:blip r:embed="rId1"/>
          <a:stretch/>
        </p:blipFill>
        <p:spPr>
          <a:xfrm>
            <a:off x="196920" y="4572000"/>
            <a:ext cx="2088720" cy="2088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WETCPRE2"/>
          <p:cNvPicPr/>
          <p:nvPr/>
        </p:nvPicPr>
        <p:blipFill>
          <a:blip r:embed="rId2"/>
          <a:stretch/>
        </p:blipFill>
        <p:spPr>
          <a:xfrm>
            <a:off x="6910560" y="4495680"/>
            <a:ext cx="2233080" cy="236196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2"/>
          <p:cNvSpPr/>
          <p:nvPr/>
        </p:nvSpPr>
        <p:spPr>
          <a:xfrm>
            <a:off x="304920" y="-10692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52280" y="1584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304920" y="16812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457200" y="320760"/>
            <a:ext cx="16282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534960" y="513000"/>
            <a:ext cx="8076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299880"/>
            <a:ext cx="8805600" cy="69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7b9899"/>
                </a:solidFill>
                <a:latin typeface="Georgia"/>
              </a:rPr>
              <a:t>Estimated Cost of Residenc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707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idency Fee (per residency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$ 350.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om &amp; Board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7 days at area Hotel – Approximately $200.00 per d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Travel to and from each residency – Cost will var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546d7a"/>
                </a:solidFill>
                <a:latin typeface="Georgia"/>
              </a:rPr>
              <a:t>Estimated cost for meals per day - Var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o Charge if taken at W3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ooks &amp; Material Fees (varies per course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aduation Cost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0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stimated Cost of Masters Degre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pplication Fee (waived if application is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ubmitted through W3)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$    50.00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uition and Fees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6 credit per semester example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uition (Per Credit Hour $605.00)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    $3630.00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Technology Fee                                                                      175.00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College Fee ($.85 per credit)                          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5.10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Student Activity Fee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($6.25 per credit hou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16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up $25. per semester)</a:t>
            </a: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      25.0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03640" indent="-25164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Health &amp; Wellness Fee ($15 per semester)                       15.00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251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1680" y="1523880"/>
            <a:ext cx="4039920" cy="732600"/>
          </a:xfrm>
          <a:prstGeom prst="rect">
            <a:avLst/>
          </a:prstGeom>
          <a:noFill/>
          <a:ln w="1584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Under-Graduate Degree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791240" y="1523880"/>
            <a:ext cx="4041360" cy="731160"/>
          </a:xfrm>
          <a:prstGeom prst="rect">
            <a:avLst/>
          </a:prstGeom>
          <a:noFill/>
          <a:ln w="1584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Graduate Degre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65" name="Content Placeholder 6"/>
          <p:cNvGraphicFramePr/>
          <p:nvPr/>
        </p:nvGraphicFramePr>
        <p:xfrm>
          <a:off x="301680" y="2403000"/>
          <a:ext cx="4041360" cy="4905360"/>
        </p:xfrm>
        <a:graphic>
          <a:graphicData uri="http://schemas.openxmlformats.org/drawingml/2006/table">
            <a:tbl>
              <a:tblPr/>
              <a:tblGrid>
                <a:gridCol w="1455120"/>
                <a:gridCol w="1051920"/>
                <a:gridCol w="1534320"/>
              </a:tblGrid>
              <a:tr h="6181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Name of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In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Out of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820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Empire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4,3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- </a:t>
                      </a: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W3 dis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181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niversity of Ma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6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3,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4010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0,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4,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35820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Ka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66,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66,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84528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Indiana University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11,6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6" name="Content Placeholder 7"/>
          <p:cNvGraphicFramePr/>
          <p:nvPr/>
        </p:nvGraphicFramePr>
        <p:xfrm>
          <a:off x="4800600" y="2361960"/>
          <a:ext cx="4038120" cy="4594320"/>
        </p:xfrm>
        <a:graphic>
          <a:graphicData uri="http://schemas.openxmlformats.org/drawingml/2006/table">
            <a:tbl>
              <a:tblPr/>
              <a:tblGrid>
                <a:gridCol w="1416960"/>
                <a:gridCol w="1062720"/>
                <a:gridCol w="1558440"/>
              </a:tblGrid>
              <a:tr h="5785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Name of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In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Georgia"/>
                        </a:rPr>
                        <a:t>Out of State Tu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5028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Empire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7032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niversity of Mary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3,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7,5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38556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U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  <a:tr h="6656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Kaplan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6eae8"/>
                    </a:solidFill>
                  </a:tcPr>
                </a:tc>
              </a:tr>
              <a:tr h="804240"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Indiana University (onl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2,4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  <a:tc>
                  <a:txBody>
                    <a:bodyPr lIns="84960" rIns="84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Georgia"/>
                        </a:rPr>
                        <a:t>$7,0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4960" marR="849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d2cf"/>
                    </a:solidFill>
                  </a:tcPr>
                </a:tc>
              </a:tr>
            </a:tbl>
          </a:graphicData>
        </a:graphic>
      </p:graphicFrame>
      <p:sp>
        <p:nvSpPr>
          <p:cNvPr id="267" name="PlaceHolder 3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Cost Comparison – Per Semest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cholarship/Financial Assistanc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AM Schola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ederal Financial Ai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ion Plus College Schola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eteran’s Bene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FL-CIO Websi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udent Loa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63520" indent="-263520">
              <a:lnSpc>
                <a:spcPct val="9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heck with your district for possible scholarship opportun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50068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For More Information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mpire State Colleg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ebsite – </a:t>
            </a: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esc.edu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Jim McMahon – 646-230-1355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AMAW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honda Rogers – </a:t>
            </a: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2"/>
              </a:rPr>
              <a:t>rrogers@iamaw.or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15520" indent="-25776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Rhonda Rogers – 301-373-8819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Georgi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7760" indent="-25776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npisinger Center -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01-373-3300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57760"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5520"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8720" cy="4723920"/>
          </a:xfrm>
          <a:prstGeom prst="rect">
            <a:avLst/>
          </a:prstGeom>
          <a:noFill/>
          <a:ln w="0">
            <a:solidFill>
              <a:srgbClr val="99ff33"/>
            </a:solidFill>
          </a:ln>
        </p:spPr>
        <p:txBody>
          <a:bodyPr lIns="90000" rIns="90000" tIns="45000" bIns="45000" anchor="t">
            <a:normAutofit fontScale="93000"/>
          </a:bodyPr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ounded in 1971 by SUNY Board of Trustees and Ernest L. Boyer (Future US Commissioner of Education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enter for Labor Studies renamed Harry Van Arsdale, Jr. Center in 1986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abor focused non-traditional teaching &amp; online learning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ully accredited by Middle States Commission on Higher Educ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Serves working adults at 35 New York locations and onlin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54880" indent="-254880">
              <a:lnSpc>
                <a:spcPct val="100000"/>
              </a:lnSpc>
              <a:spcBef>
                <a:spcPts val="439"/>
              </a:spcBef>
              <a:buClr>
                <a:srgbClr val="ffc000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ffers associate, bachelor’s and master’s degree program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064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36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ssociate Degree in Labor Studi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27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64 credit hou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0 credits must include general education requirements in seven of ten area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ust include mathematics and basic commun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oice of five from natural science, social science, American history, western civilization, other world civilizations, humanities, the arts, and foreign langu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ransfer credits may be used to meet this requiremen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24 of 64 credits must be earned at Empire State Colle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8536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77480"/>
            <a:ext cx="91436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Bachelor’s Degree in Labor Studi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87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124 credit hou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0 credits must include general education requirements in seven of ten area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ust include mathematics and basic communicatio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39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hoice of five from natural science, social science, American history, western civilization, other world civilizations, humanities, the arts, and foreign languag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ransfer credits may be used to meet this requiremen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400" spc="-1" strike="noStrike">
                <a:solidFill>
                  <a:srgbClr val="646b86"/>
                </a:solidFill>
                <a:latin typeface="Georgia"/>
              </a:rPr>
              <a:t>32 of 124 credits must be earned at Empire State Colleg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9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00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Counts for Credit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ge Transfer Credits  (“C” or better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ited States Univers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ternational Universit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pprenticeship Cred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litary Cred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llege Level Examination Program (CLEP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dividualized Prior Learning (IPLA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nership Credits through W3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artnership Credits through Academic/Union Partn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729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idency Requirement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70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rt of Entr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Educational Plann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Labor &amp; Public Affair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llege Writing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mediate Arts &amp; Scienc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Development of the Labor Movement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Labor &amp; the Economy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Labor by the Numbers (satisfies Math Gen. Ed. Requirement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300" spc="-1" strike="noStrike">
                <a:solidFill>
                  <a:srgbClr val="646b86"/>
                </a:solidFill>
                <a:latin typeface="Georgia"/>
              </a:rPr>
              <a:t>Science &amp; Civilization (satisfies Science Gen. Ed. Requirement)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60640" indent="-260640">
              <a:lnSpc>
                <a:spcPct val="100000"/>
              </a:lnSpc>
              <a:spcBef>
                <a:spcPts val="56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pstone Residency (Require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Projec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Thesi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21640" indent="-26064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Senior Seminar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8156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Estimated Cost for Required Clas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7076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9000"/>
          </a:bodyPr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Application Fee (waived if application is submitted through W3)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$   50.00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                       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Tuition and Fees (4 credits per class)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uition (Per Credit Hour $297 for residency courses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1188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uition (Per Credit Hour $360 for on-line only courses)                                                                       1440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Technology Fee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(Per Semester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 17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College Fee ($.85 per credit up to $12.50 per semester)                          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   12.5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Student Activity Fee ($6.25 per credit hour up to $25. per semester                                                       2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Health &amp; Wellness Fee ($15 - $35 per semester)                                                                                          3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Additional Fees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Portfolio Fee (one time fee)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                                      315.00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1" marL="4892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IPLA Fee (Individualized Prior Learning Assessment Fee)                                                                      Varies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$350 first 8 credit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$300 per additional 8 credit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34040" indent="-203760">
              <a:lnSpc>
                <a:spcPct val="10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Cost is capped at $1,550  (there is no limit to PLA credits except core requirements must be met)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marL="530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Georgi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W3 Partnership Credits                                                                                                                       0            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Previous College Transfer Credits (included in portfolio fee)   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lvl="1" marL="611640" indent="-244440">
              <a:lnSpc>
                <a:spcPct val="100000"/>
              </a:lnSpc>
              <a:spcBef>
                <a:spcPts val="85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4300" spc="-1" strike="noStrike">
                <a:solidFill>
                  <a:srgbClr val="646b86"/>
                </a:solidFill>
                <a:latin typeface="Georgia"/>
              </a:rPr>
              <a:t>C” or better - 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44440" indent="-244440">
              <a:lnSpc>
                <a:spcPct val="100000"/>
              </a:lnSpc>
              <a:spcBef>
                <a:spcPts val="98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Georgia"/>
              </a:rPr>
              <a:t>Other Transfer Credits </a:t>
            </a:r>
            <a:endParaRPr b="0" lang="en-US" sz="49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444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7b9899"/>
                </a:solidFill>
                <a:latin typeface="Georgia"/>
              </a:rPr>
              <a:t>Master’s Degree in Work &amp; Labor Polic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915040" cy="478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234000" indent="-234000">
              <a:lnSpc>
                <a:spcPct val="90000"/>
              </a:lnSpc>
              <a:spcBef>
                <a:spcPts val="1020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5100" spc="-1" strike="noStrike">
                <a:solidFill>
                  <a:srgbClr val="000000"/>
                </a:solidFill>
                <a:latin typeface="Georgia"/>
              </a:rPr>
              <a:t>Requirements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468360" indent="-234000">
              <a:lnSpc>
                <a:spcPct val="90000"/>
              </a:lnSpc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646b86"/>
                </a:solidFill>
                <a:latin typeface="Georgia"/>
              </a:rPr>
              <a:t>12 classes consisting of 3 credits each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3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2" marL="703080" indent="-195120">
              <a:lnSpc>
                <a:spcPct val="9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Two courses to be taken each semester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2" marL="703080" indent="-195120">
              <a:lnSpc>
                <a:spcPct val="90000"/>
              </a:lnSpc>
              <a:spcBef>
                <a:spcPts val="680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Required courses</a:t>
            </a:r>
            <a:endParaRPr b="0" lang="en-US" sz="3400" spc="-1" strike="noStrike">
              <a:solidFill>
                <a:srgbClr val="646b86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Policy Proces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Work &amp; Labor Studie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History of Labor &amp; Policy 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Research Method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Current Issues Facing Labor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Labor Law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Policy Formation in Unions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Electives (Economics, Leadership, Politics)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Final Project I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3" marL="937440" indent="-195120">
              <a:lnSpc>
                <a:spcPct val="90000"/>
              </a:lnSpc>
              <a:spcBef>
                <a:spcPts val="62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Final Project II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773280" indent="0">
              <a:lnSpc>
                <a:spcPct val="9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468360" indent="-234000">
              <a:lnSpc>
                <a:spcPct val="90000"/>
              </a:lnSpc>
              <a:spcBef>
                <a:spcPts val="7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0"/>
              </a:tabLst>
            </a:pPr>
            <a:r>
              <a:rPr b="0" lang="en-US" sz="31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646b86"/>
                </a:solidFill>
                <a:latin typeface="Georgia"/>
              </a:rPr>
              <a:t>Three residencies lasting 7 days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3400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b9899"/>
                </a:solidFill>
                <a:latin typeface="Georgia"/>
              </a:rPr>
              <a:t>Residenc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olicy Proces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Work &amp; Labor Studi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Project 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Class (Elective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dency III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Final Project II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dditional Class (Elective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ivic">
  <a:themeElements>
    <a:clrScheme name="Civic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3247</TotalTime>
  <Application>LibreOffice/7.4.7.2$Linux_X86_64 LibreOffice_project/40$Build-2</Application>
  <AppVersion>15.0000</AppVersion>
  <Words>616</Words>
  <Paragraphs>213</Paragraphs>
  <Company>EDU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5:40:14Z</dcterms:created>
  <dc:creator>Chuck Hodell</dc:creator>
  <dc:description/>
  <dc:language>en-US</dc:language>
  <cp:lastModifiedBy>Rhonda Rogers</cp:lastModifiedBy>
  <cp:lastPrinted>2014-05-09T13:59:56Z</cp:lastPrinted>
  <dcterms:modified xsi:type="dcterms:W3CDTF">2015-04-24T18:01:44Z</dcterms:modified>
  <cp:revision>246</cp:revision>
  <dc:subject/>
  <dc:title>Educational Plan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4</vt:r8>
  </property>
</Properties>
</file>