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5D2-30F8-433C-9289-E5DF4045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90F9-4EB8-4C57-AABB-0D90198B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385-A499-4271-A74D-A2B85FEF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D5D-41E0-4E01-B807-264ADCEB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6AE3-29A0-41F7-86DE-ED187533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B6D0-5B23-4883-B903-E2AC90B5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AA3F-D44C-4B7C-9201-E99DD38E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1BD0-65E9-4B3E-A3A4-352182D5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5F13-A78A-4318-B723-86858A64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EB7C-75D9-42B8-BDCF-8A91E761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AEE4-DD02-4020-9FE2-21878033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F284-E587-4FAA-8353-9F577ED4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1293-941F-4159-8680-0B92F86B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1F2E-8AC3-49FE-B6D5-3ADD01BB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5633-C0A0-412A-8C16-763EF680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FC61-FBA2-4830-83F9-C487990E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9478-2AE9-492B-B682-CDE3B15D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04F-5A9F-4686-A30D-92D5D051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05FF-24CB-4B27-893A-109955D7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0F7-10DA-4D43-BF6D-EAB998E7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70A-38C8-449C-8507-BA67DC31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0388-BDDC-4C2C-BE23-3B558681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D27-81D7-4204-AD98-9CCD8A9D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E64-222D-45D4-98F3-DFD6152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Right Triangle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Right Triangle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Group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Freeform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Freeform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Straight Connector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09A539-7273-4108-B12C-21A8F12A4F8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Freeform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Right Triangle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Straight Connector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cond leve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E44D93-E244-49CE-8C4E-3121CAA7CFF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Master title style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http://www.goiam.org/images/articles/imail/latest-imail/2016/May_Aug/07_12_2016_eap.jpg"/>
          <p:cNvPicPr/>
          <p:nvPr/>
        </p:nvPicPr>
        <p:blipFill>
          <a:blip r:embed="rId1"/>
          <a:stretch/>
        </p:blipFill>
        <p:spPr>
          <a:xfrm>
            <a:off x="-304920" y="0"/>
            <a:ext cx="13715640" cy="6857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7"/>
          <p:cNvSpPr/>
          <p:nvPr/>
        </p:nvSpPr>
        <p:spPr>
          <a:xfrm>
            <a:off x="152280" y="5027400"/>
            <a:ext cx="96771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mail – iameap@iamaw.or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True unionist is someone who is there for oth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ll if you need assistance or you are uns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301) 335 0735 for confidential assist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onclus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IAMAW </a:t>
            </a:r>
            <a:br>
              <a:rPr sz="4800"/>
            </a:br>
            <a:r>
              <a:rPr b="1" lang="en-US" sz="4800" spc="-1" strike="noStrike">
                <a:solidFill>
                  <a:srgbClr val="464646"/>
                </a:solidFill>
                <a:latin typeface="Lucida Sans Unicode"/>
              </a:rPr>
              <a:t>Employee Assistance Program and Member Assistance Program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0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Help our members at the front door before they exit through the back door.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 address employee-related concerns that are vitally linked to job performance, job satisfaction, quality of work and life issues that adversely affect employees, our members’ and their fami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Mission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 assist IAM members and employees in becoming proactive in solving problems affecting the quality of their work and personal lives. Common  areas of concern include alcohol and/or drug addiction, depression, excessive debt, mental health disorders, gambling addiction, stress and violence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Objectives  of the Progra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pr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res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cohol and Drug Disord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cessive Deb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tal Health 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ddictive behavio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olenc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lti-Disord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Broad Brush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fidential **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k Through Den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fer to Profession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itor Treatments***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nitor After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Key Points of Program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e/Memb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ami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-wor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Who Benefit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coh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piat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amphetami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mphetam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nzodiazep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th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rijuan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urrent Major Issu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ny of the disorders/addictions are diseas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is on health first.  Family, job, and community will work out if the person is health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nearly all cases, the person must want to be health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Important Issues</a:t>
            </a:r>
            <a:endParaRPr b="0" lang="en-US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ourse">
  <a:themeElements>
    <a:clrScheme name="Concourse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83</TotalTime>
  <Application>LibreOffice/7.4.7.2$Linux_X86_64 LibreOffice_project/40$Build-2</Application>
  <AppVersion>15.0000</AppVersion>
  <Words>229</Words>
  <Paragraphs>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9T21:11:09Z</dcterms:created>
  <dc:creator>Charlie Micallef</dc:creator>
  <dc:description/>
  <dc:language>en-US</dc:language>
  <cp:lastModifiedBy>Manhart Edward</cp:lastModifiedBy>
  <cp:lastPrinted>2016-08-29T20:27:45Z</cp:lastPrinted>
  <dcterms:modified xsi:type="dcterms:W3CDTF">2017-06-06T20:18:08Z</dcterms:modified>
  <cp:revision>11</cp:revision>
  <dc:subject/>
  <dc:title>IAMAW  Employee Assistance Program and Member Assistance Pro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