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7D3-C80A-4C80-8756-59702138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1BB-EF55-4C19-BF0D-B5F5DC07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8EF-E5F4-4069-84DF-A8A9E7D3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E48-5B95-43E0-AC9C-1CDDCD38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8E4B-5CBF-451A-9687-11A889B5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B055-928B-4945-B8C5-F958DE17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7C91-7080-41EA-B28D-B225B3A1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E378-0D77-4A54-B4B6-BB372E6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280E-B5F4-44FC-947E-A6F957A5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E40F-C41D-4FA7-A0FF-3C0731EC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08FA-C58C-4AEF-9DBB-3EEF4A12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179-D1D1-46B5-B79D-67C8F0F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CA35-EBCA-4757-A817-AA4569C0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3A5E-A76F-4EBB-BD7B-BE209C89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DE95-58CB-4A5E-8BFE-BF424EDB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6D82-F200-4417-B0F8-37F27463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1267-235F-46D0-BD9E-662AF1C0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80B-3989-4F64-A2A7-45B774B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61C-E224-481B-84DA-C594211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DF4-6A9E-426D-8209-9BC9D446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C91-79A9-4B9D-9DCD-29530106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ACA-639C-4D00-A38D-6536BE54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C3D-017A-4202-869F-45FAC776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9C9-F0F6-4A19-91BD-8F70D2A7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6DEE5E-15E5-4520-BEE7-9715D20FE33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57FA02-1588-4E93-9656-EFBC7A270A9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http://www.goiam.org/images/articles/imail/latest-imail/2016/May_Aug/07_12_2016_eap.jpg"/>
          <p:cNvPicPr/>
          <p:nvPr/>
        </p:nvPicPr>
        <p:blipFill>
          <a:blip r:embed="rId1"/>
          <a:stretch/>
        </p:blipFill>
        <p:spPr>
          <a:xfrm>
            <a:off x="-304920" y="0"/>
            <a:ext cx="1371564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152280" y="5027400"/>
            <a:ext cx="96771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mail – iameap@iamaw.or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rue unionist is someone who is there for ot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 if you need assistance or you are uns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301) 335 0735 for confidential assis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onclus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IAMAW </a:t>
            </a:r>
            <a:br>
              <a:rPr sz="4800"/>
            </a:b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Employee Assistance Program and Member Assistance Program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Help our members at the front door before they exit through the back door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o address employee-related concerns that are vitally linked to job performance, job satisfaction, quality of work and life issues that adversely affect employees, our members’ and their fami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iss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o assist IAM members and employees in becoming proactive in solving problems affecting the quality of their work and personal lives. Common  areas of concern include alcohol and/or drug addiction, depression, excessive debt, mental health disorders, gambling addiction, stress and viole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Objectives  of the Progra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es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cohol and Drug Disorde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ive Deb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tal Health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ictive behavi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olen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-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Broad Brush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fidential **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k Through Den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fer to Profession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itor Treatments**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itor Afterc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Key Points of Progra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mployee/Me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m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wor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mploy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un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ho Benefit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coh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iat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amphetam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phetam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zodiazep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t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jua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urrent Major Issu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f the disorders/addictions are diseas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is on health first.  Family, job, and community will work out if the person is health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nearly all cases, the person must want to be health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mportant Issu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83</TotalTime>
  <Application>LibreOffice/7.4.7.2$Linux_X86_64 LibreOffice_project/40$Build-2</Application>
  <AppVersion>15.0000</AppVersion>
  <Words>229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9T21:11:09Z</dcterms:created>
  <dc:creator>Charlie Micallef</dc:creator>
  <dc:description/>
  <dc:language>en-US</dc:language>
  <cp:lastModifiedBy>Manhart Edward</cp:lastModifiedBy>
  <cp:lastPrinted>2016-08-29T20:27:45Z</cp:lastPrinted>
  <dcterms:modified xsi:type="dcterms:W3CDTF">2017-06-06T20:18:08Z</dcterms:modified>
  <cp:revision>11</cp:revision>
  <dc:subject/>
  <dc:title>IAMAW  Employee Assistance Program and Member Assistance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